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3090E-203B-4FFC-AA9C-BC8775C3C37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8B4A9-DB1B-48CB-B157-3DD20EBB113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5D0C4-8C20-4110-8FDA-1313446B9BA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3F677-0ED3-49F5-B1A0-348AD341A45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803F3-F56B-4FD1-B81B-F37283FE8D6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4D530-38F3-49D6-B9FE-94EFA039AE2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AC145-7051-4FC4-9A1B-ADE4842E80E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7CD3D-6394-4E45-9918-9ADF9ED7B26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167-53DC-4580-AF8C-2F082ACF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134-5E6D-4F2F-A82F-E2DB05D2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CCE-8238-4C4D-AABD-25A01C10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20F-C98F-4A7E-9C72-9F1AF3B1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787F-9958-479C-ACB5-6D84D7A3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C22C-AC16-42EC-87EF-C307DAC2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4C1-4EB4-4B84-9C20-E35756BD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48B2-3122-42EC-9B8C-B91D619A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B1E9-DAA3-402E-91DD-AB7AB8F6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9456-9D39-4B4A-9173-63288235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7EC8-13D8-4E03-869C-61559469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735-1617-47F0-AC63-5409F8C3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24AB-647B-4DA7-B9FA-2B5D1FB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1F63-6876-4E7F-97B5-E434C1BD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0B92-6860-42BC-8505-D9741583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3F1C-E069-4681-BD11-439B7ECE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FFDE-0F19-492A-909E-0E2A9F8E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4D6-C065-405F-BCA2-79FB6D0D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0FF-FAD8-4444-9DCF-0F3C412E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096-687F-4958-A9B5-1B337E1F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514-8512-4679-B8F7-7464D50F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A9A-1A30-4E87-9F12-07F75658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E06B-9060-469C-86E5-F6333DE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683-DA3E-4BC7-9424-6E076B6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F6753-6C23-4C71-A912-24CC5E190B2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F503D-72D4-4D90-B9CF-57B2656CA07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914400" y="1600200"/>
            <a:ext cx="835668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-Large issues related to new gTLD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ember 11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van Leibov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Carried over from DAGv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-Large comments were made at the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issues in that report were not ad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we express concern about lack of conside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Untouched from DAG2 to DAG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ice for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specially for community applications that aren't using the TLD mainly for revenu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nitive “refund” system for partial b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not a graduated “pay by the stage”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orality and Public Order ob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body wants it, but everyone thinks we nee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we propose an alternative (maybe together with GAC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ybe just a “banned word” l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Untouched from DAG2 to DAG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tegor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ill just “community” and “non-commun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ck of further splits denies fast-tracking for non-controversi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fferenti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many are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ginous peoples' “Traditional Knowledge” unacknowl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Modified in DAG3, but still b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ring confusion – there is still allowance for objections based “meanings” of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similar “meaning” to trad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pute Resoluti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rties should be allowed to choose their own med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ependent Obj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xed budget and an obligation to bear same costs as any other ob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ll this limit how effective the IO can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Not yet dealt wit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registered trad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didn't have a position before on “common law” marks, but this came up in debate over the 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gh Security Zone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it worth anything without WHOIS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accurac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're looking for guidance on this, it se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ression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now part of DAG, but could appear in DAG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Not yet dealt wit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demark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an and Olivier participating with G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may still need to make our own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5:31:07Z</dcterms:created>
  <dc:creator>Evan Leibovitch</dc:creator>
  <dc:description/>
  <dc:language>en-US</dc:language>
  <cp:lastModifiedBy>CHANGEME</cp:lastModifiedBy>
  <dcterms:modified xsi:type="dcterms:W3CDTF">2009-12-10T09:47:42Z</dcterms:modified>
  <cp:revision>2</cp:revision>
  <dc:subject/>
  <dc:title>Slide 1</dc:title>
</cp:coreProperties>
</file>