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8320" y="763200"/>
            <a:ext cx="54943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398840" y="-360"/>
            <a:ext cx="33703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32BBC-C87B-4F5A-8187-22EA1DB5021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7FEE6-02D7-4DA1-9033-01A82363333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DF7B0-207F-4E84-95F9-620CC529BD9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FBB64-45CF-4F79-9CA5-0AE76CBDAC3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CA673-2EBA-46E1-A22B-16D0EBCD743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61E0E-6AC7-4941-B8F1-6CB7709823A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5E894-10F8-4F04-A998-1B34444E459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398840" y="9555120"/>
            <a:ext cx="33703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EEBED-B1BD-4466-8CDA-041EBA7EC5E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3040" y="763560"/>
            <a:ext cx="5026320" cy="37702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219-1CF7-495A-9D74-83C7885E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A6D-2DB6-42BF-A27D-83DBA6F2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4657-6CBC-46A1-85A8-66F8B90BA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DD1-75E7-40ED-8D1D-DE227D11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1BA6-2D85-4B4B-BE6C-2AB4CCE0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DAB0-BA79-480A-8715-182D5E30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68FF-D405-4874-A857-4C0C1564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61DE-433B-4D4A-BAE2-62DC1059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D4BD-21F0-4D1A-9807-1612DD78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DF29-3EA6-4E43-8E45-B2F6319F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6864-E9C6-427B-8925-344EF6CD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A82-E8B8-49C2-A756-A353D200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0BCA-E937-4743-B951-CB66DBB1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26E0-DD95-4D24-8538-4BA039DE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9400-0763-4002-9643-8E73CEA8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A892-E243-4830-B1FF-E54D1CD5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DA43-4859-450A-B799-799439FF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E93-2171-40E7-96E9-BEC72E71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DF2-4CB8-46A6-9961-79A0DED8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761-E488-4356-8AED-2369155F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519-025E-4E10-B8D2-DA07FD0A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01F-EFE6-40FD-A696-3ADE6D7D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353-38E1-4B34-A342-179C2154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5E8-50B8-4A7A-BC90-925D3910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F7BD5-6B12-425B-8C03-0D732480779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4FF15-E326-4F77-9C9D-19C745922AC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914400" y="1600200"/>
            <a:ext cx="8356680" cy="37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-Large issues related to new gTLD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cember 11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van Leibov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Carried over from DAGv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t-Large comments were made at the Sum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ost issues in that report were not add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 we express concern about lack of conside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Untouched from DAG2 to DAG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rice for applic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2700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specially for community applications that aren't using the TLD mainly for revenu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nitive “refund” system for partial b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2700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y not a graduated “pay by the stage”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Morality and Public Order ob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2700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body wants it, but everyone thinks we need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2700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 we propose an alternative (maybe together with GAC)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2700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ybe just a “banned word” l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Untouched from DAG2 to DAG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tegor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ill just “community” and “non-commun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ck of further splits denies fast-tracking for non-controversi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fferential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many are opti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llectual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diginous peoples' “Traditional Knowledge” unacknowled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Modified in DAG3, but still b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tring confusion – there is still allowance for objections based “meanings” of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so similar “meaning” to trad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ispute Resolution Servi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rties should be allowed to choose their own medi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dependent Obj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xed budget and an obligation to bear same costs as any other obj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9080" indent="-27576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ll this limit how effective the IO can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Not yet dealt with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Unregistered trade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 didn't have a position before on “common law” marks, but this came up in debate over the I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High Security Zone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it worth anything without WHOIS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accurac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're looking for guidance on this, it se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pressions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now part of DAG, but could appear in DAG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Arial"/>
              </a:rPr>
              <a:t>Not yet dealt with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demark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an and Olivier participating with GN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 may still need to make our own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ything e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5:31:07Z</dcterms:created>
  <dc:creator>Evan Leibovitch</dc:creator>
  <dc:description/>
  <dc:language>en-US</dc:language>
  <cp:lastModifiedBy>CHANGEME</cp:lastModifiedBy>
  <dcterms:modified xsi:type="dcterms:W3CDTF">2009-12-10T09:47:42Z</dcterms:modified>
  <cp:revision>2</cp:revision>
  <dc:subject/>
  <dc:title>Slide 1</dc:title>
</cp:coreProperties>
</file>