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8320" y="763200"/>
            <a:ext cx="54943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39884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69C97-C3F3-4E27-B297-38143FA79FF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47001-1639-436D-8C92-4BBF2CA65A1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F58A8-871F-4085-A253-158F7295EAA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FF65A-9FE1-46D1-A8E6-6B32ECDFF9F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1D046-3E2C-411A-AB00-0D3DB8511FF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15554-4B7C-4A8F-9BD4-BF70E953830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22F7A-F205-4C8E-BEEA-CD084ACBB6A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4D5B6-B8B9-4AED-A879-F4B0599F604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597-D14E-4892-8E9F-C401632B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23F-1C62-4104-A69E-EA2CB4EF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AFB-12EA-40F9-85DF-860FA527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597-79E8-45CC-8968-5DB6BCE7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E37E-3929-4D89-8D1D-33D2092C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D2BA-D085-4FD1-A2E9-FCC73F40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41CD-C879-43B5-9D2B-0F4702B8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5773-6EDA-4D55-9E9E-1E815203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6AB7-D5FA-4C5B-A394-4E3CFFCC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19F8-1630-4582-9F91-26EE6494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FACF-4FDA-4898-9491-C37C7646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F4D-A182-4789-8E11-09B2382F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DD02-6C5F-4E06-924A-8253DDC7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926C-D072-45AC-9AFE-3468807C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4289-0525-4A27-A621-A62CD28D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8F79-5677-4E9C-B336-6BAB5A09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6577-BC86-4C3F-8DB1-107AF3B6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BDA-9153-4CA9-948B-165F6DE0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DA1-02B3-4ACE-AEC5-D86C7607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B7E-FF47-4D7E-9CFC-78C183C9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5FC-F57B-42B7-A39E-613610DB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68C-98A3-4A1D-8D7D-30015FB8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D21-1204-402D-80C7-097A40EC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6C7-044F-491B-98E5-BF28D5FA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A812B-4568-447E-B751-B385C1C6C5C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9E53E-9CCF-475E-8FC1-32ECB525EB7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914400" y="1600200"/>
            <a:ext cx="835668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t-Large issues related to new gTLD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cember 11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van Leibov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Carried over from DAGv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t-Large comments were made at the Su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st issues in that report were not add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we express concern about lack of conside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Untouched from DAG2 to DAG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4000"/>
          </a:bodyPr>
          <a:p>
            <a:pPr marL="405720" indent="-3042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ice for applic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2700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specially for community applications that aren't using the TLD mainly for revenu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nitive “refund” system for partial b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2700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y not a graduated “pay by the stage” 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Morality and Public Order obj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2700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body wants it, but everyone thinks we need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2700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an we propose an alternative (maybe together with GAC)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2700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ybe just a “banned word” l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Untouched from DAG2 to DAG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tegor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ill just “community” and “non-commun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ck of further splits denies fast-tracking for non-controversi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fferential pr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many are opti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llectual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diginous peoples' “Traditional Knowledge” unacknowled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Modified in DAG3, but still b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ring confusion – there is still allowance for objections based “meanings” of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9080" indent="-27576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so similar “meaning” to trad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pute Resolution Servic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9080" indent="-27576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rties should be allowed to choose their own medi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dependent Obj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9080" indent="-27576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xed budget and an obligation to bear same costs as any other obj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9080" indent="-27576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ll this limit how effective the IO can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Not yet dealt with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registered trade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 didn't have a position before on “common law” marks, but this came up in debate over the 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igh Security Zone 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it worth anything without WHOIS 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accurac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're looking for guidance on this, it se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ressions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now part of DAG, but could appear in DAG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Not yet dealt with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demark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an and Olivier participating with GN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 may still need to make our own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ything e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5:31:07Z</dcterms:created>
  <dc:creator>Evan Leibovitch</dc:creator>
  <dc:description/>
  <dc:language>en-US</dc:language>
  <cp:lastModifiedBy>CHANGEME</cp:lastModifiedBy>
  <dcterms:modified xsi:type="dcterms:W3CDTF">2009-12-10T09:47:42Z</dcterms:modified>
  <cp:revision>2</cp:revision>
  <dc:subject/>
  <dc:title>Slide 1</dc:title>
</cp:coreProperties>
</file>